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8DCC-9632-4621-9F73-3A3CA275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AD50-F554-4921-AFFC-A37D6D00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67F-79D2-443C-BA59-6810B695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F3E-97B2-4D2E-99F6-A3D78162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B88-D000-45D0-AE10-A4E21717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434-3664-43AE-B495-55CE2104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6BD-C067-4238-8F72-B9DCF82C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90C-C188-4734-9D82-8540F7C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EDB-6472-4641-9B18-09FABC91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04F-1988-4574-8950-3DE5DF0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16F-2419-47BA-B7B9-B6788C7B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B1B-4EDE-4BFE-9687-8C441CF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830-F8B8-49BD-AF4A-CFEFF06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582-ED4E-45C2-822F-C8F5009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28A-1344-40B7-9096-EF62FA81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litica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te legisl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had substantial success with peac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had substantial success with peace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8_15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f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2:00:36Z</dcterms:modified>
  <cp:revision>88</cp:revision>
  <dc:subject/>
  <dc:title>CRS Chapter 4</dc:title>
</cp:coreProperties>
</file>